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1672-E229-484A-9844-A3FE6C62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80CB-6742-47C6-BB6A-2F0CDA32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8C4-1B7E-49F6-BFE9-6F01660A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520-7835-4EB9-85E0-B937C4A5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7FE29-0F4C-443D-BA56-137228AF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C42AF-B27D-4B2A-A3AB-88208031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B5040-FB93-43FB-9F3D-674A0E6D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C1EA0-DE30-43C6-9208-7420AB00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75F35-B02F-40E7-BF65-A3A9CC77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419AC-D58C-4B69-99DF-A86CC3D6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0F421-F3C6-4A1F-89AA-6A278BEF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9D8-ABBF-45ED-8DBA-51143BB9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B6556-3F7D-4F36-81B2-C248C57F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A04E8-D476-49AC-9AFB-6131F13A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24ADA-577A-4A8F-9878-C6D990BB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5AA1A-99CC-4687-B9D5-AAA60BB9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0D2E4-3243-4268-8F24-65196878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296-D259-4E75-8264-A8328E7A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1ACC-FB40-42DE-ADDA-37ACA9DE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1E7-F612-476A-A3EA-AE7B34B2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D9A6-E49D-4B8A-B708-62D80AB6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CD0-3017-4C56-A2C6-904F1588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3B4-0593-4491-8E14-5DE3C634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7AA-5329-49A3-88F2-A3C6F655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F675-A8DD-4121-AEE2-C5463F28184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487A-0CAA-4F53-B8FD-840391593135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1103400" y="-334800"/>
            <a:ext cx="703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161616"/>
                </a:solidFill>
                <a:latin typeface="Tahoma"/>
              </a:rPr>
              <a:t>Antropologia 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7200" spc="-1" strike="noStrike">
                <a:solidFill>
                  <a:srgbClr val="ffffff"/>
                </a:solidFill>
                <a:latin typeface="Tahoma"/>
              </a:rPr>
              <a:t>Como Ciência 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pt-BR" sz="7200" spc="-1" strike="noStrike">
                <a:solidFill>
                  <a:srgbClr val="ffffff"/>
                </a:solidFill>
                <a:latin typeface="Tahoma"/>
              </a:rPr>
              <a:t>Cultur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6040" y="21888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O conceito de antropologia cultural implica os de: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1º) Ciência Social - propõe conhecer o homem enquanto elemento integrante de grupos organizado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0400" y="2765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2º) Ciência Humana - volta-se especificamente para o homem como um todo: sua história, suas crenças, usos e costumes, filosofia, linguagem etc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49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Tahoma"/>
              </a:rPr>
              <a:t>Alunos:</a:t>
            </a:r>
            <a:br>
              <a:rPr sz="6000"/>
            </a:br>
            <a:r>
              <a:rPr b="1" lang="pt-BR" sz="4800" spc="-1" strike="noStrike">
                <a:solidFill>
                  <a:srgbClr val="ffffff"/>
                </a:solidFill>
                <a:latin typeface="Tahoma"/>
              </a:rPr>
              <a:t>Aletéia</a:t>
            </a:r>
            <a:br>
              <a:rPr sz="4800"/>
            </a:br>
            <a:r>
              <a:rPr b="1" lang="pt-BR" sz="4800" spc="-1" strike="noStrike">
                <a:solidFill>
                  <a:srgbClr val="ffffff"/>
                </a:solidFill>
                <a:latin typeface="Tahoma"/>
              </a:rPr>
              <a:t>Athemis</a:t>
            </a:r>
            <a:br>
              <a:rPr sz="4800"/>
            </a:br>
            <a:r>
              <a:rPr b="1" lang="pt-BR" sz="4800" spc="-1" strike="noStrike">
                <a:solidFill>
                  <a:srgbClr val="ffffff"/>
                </a:solidFill>
                <a:latin typeface="Tahoma"/>
              </a:rPr>
              <a:t>Emyli</a:t>
            </a:r>
            <a:br>
              <a:rPr sz="4800"/>
            </a:br>
            <a:r>
              <a:rPr b="1" lang="pt-BR" sz="4800" spc="-1" strike="noStrike">
                <a:solidFill>
                  <a:srgbClr val="ffffff"/>
                </a:solidFill>
                <a:latin typeface="Tahoma"/>
              </a:rPr>
              <a:t>Odiléia</a:t>
            </a:r>
            <a:br>
              <a:rPr sz="4800"/>
            </a:br>
            <a:r>
              <a:rPr b="1" lang="pt-BR" sz="4800" spc="-1" strike="noStrike">
                <a:solidFill>
                  <a:srgbClr val="ffffff"/>
                </a:solidFill>
                <a:latin typeface="Tahoma"/>
              </a:rPr>
              <a:t>Priscila</a:t>
            </a:r>
            <a:br>
              <a:rPr sz="4800"/>
            </a:br>
            <a:r>
              <a:rPr b="1" lang="pt-BR" sz="4800" spc="-1" strike="noStrike">
                <a:solidFill>
                  <a:srgbClr val="ffffff"/>
                </a:solidFill>
                <a:latin typeface="Tahoma"/>
              </a:rPr>
              <a:t>Rafael Marcian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4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Antropologia - esta ciência entende a cultura como o totalidade de padrões aprendidos e desenvolvidos pelo ser humano. As formas de organização de um povo, seus costumes e tradições transmitidas de geração para geração que, a partir de uma vivência e tradição comum, se apresentam como a identidade desse povo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A Antropologia, sendo a ciência da humanidade e da cultura, tem um campo de investigação extremamente vasto: abrange, no espaço, toda a terra habitada; no tempo, pelo menos dois milhões de anos, e todas as populações socialmente organizadas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0400" y="-11080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A antropologia cultural é diferente da antropologia social, diferindo principalmente na perspectiv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pt-BR" sz="4800" spc="-1" strike="noStrike">
                <a:solidFill>
                  <a:srgbClr val="ffffff"/>
                </a:solidFill>
                <a:latin typeface="Tahoma"/>
              </a:rPr>
              <a:t>A Antropologia cultural:</a:t>
            </a:r>
            <a:br>
              <a:rPr sz="4800"/>
            </a:br>
            <a:r>
              <a:rPr b="0" lang="pt-BR" sz="4800" spc="-1" strike="noStrike">
                <a:solidFill>
                  <a:srgbClr val="ffffff"/>
                </a:solidFill>
                <a:latin typeface="Tahoma"/>
              </a:rPr>
              <a:t>Tem por objetivo o estudo do homem e das sociedades humanas na sua vertente cultural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2923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A representação, pela palavra ou pela imagem, é uma das suas questões centrais. Assim, o estudo da natureza do signo na comunicação humana, tornou-se preocupação maior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6040" y="2549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O signo em linguagem humana e, em representação iconográfica, o ícone, são pontos de partida para o desenvolvimento das disciplinas da antropologia oral ou da  antropologia visual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5120" y="24760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A criação desta disciplina reflete em parte uma reação contra a noção antiga de oposição entre "cultura" e "natureza", segundo a qual alguns humanos vivem num "estado natural" (de pura natureza)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3120" y="26920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Antropólogos argumentam que a cultura é "natureza humana" e que todas as pessoas têm a capacidade de classificar experiências, codificar classificações simbolicamente e transmitir tais abstrações. Desde que a cultura é aprendida que pessoas vivendo em diferentes lugares têm diferentes cultura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3:03:43Z</dcterms:created>
  <dc:creator>fabinho</dc:creator>
  <dc:description/>
  <dc:language>en-US</dc:language>
  <cp:lastModifiedBy>USER</cp:lastModifiedBy>
  <dcterms:modified xsi:type="dcterms:W3CDTF">2009-08-25T23:49:03Z</dcterms:modified>
  <cp:revision>4</cp:revision>
  <dc:subject/>
  <dc:title>Slide 1</dc:title>
</cp:coreProperties>
</file>